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2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2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2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4B018C-3844-4F02-8CA9-8E67EB07922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E70BB7-7445-4D9E-A082-E35F64B92FD9}" type="slidenum">
              <a:rPr b="0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B92F5C-7EE3-483A-AA6F-9817583E3CE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5B6E03-BA11-474C-AFE1-D5185CB69C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92660B-5106-447F-9C04-B846B0C7E72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15134A-53D9-4940-9022-2424ADB6190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68B2A2-2756-4876-A042-2CE9F97C7BF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5604EB-5DFE-4647-B3E1-18BDCFDDFC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28B67E-60D0-4CBA-861E-D71038F2051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44F8A-288F-4EA5-B378-F4BF2DDD666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1004F2-3647-4146-8D5F-247F0DDEF4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7806-1EAE-49D0-AB18-D637564C9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DF187-6998-4207-8FE0-0F033E59D49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7175E-99C6-4324-8111-D3ABA0E2D2A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EAFF9-62B0-46DC-8BA1-C6AE0D031E1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1BEF3-D81D-4161-A840-5D72313CC84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15960-0549-4678-BB57-FF98B895CB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B44EC-2BCC-4E82-9DE3-A62C609AF1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DFE8E-F358-49D1-8B4B-E313EB696C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1E737-57A0-4463-833F-6A8BECDA297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CC876-A47E-42F0-B53C-5765D3A36E5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BA851-F566-4463-AC65-B9705FF85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EEF99-096D-4756-A5B5-09071727F2F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9DC55-277B-43D5-B98F-EB3D008A510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0E719-775D-4086-A756-DF1DAC7DAE5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221A2-7B53-4A14-B2AC-E179B923045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D5FE8-EE3B-4816-B168-904130EB280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5CCDB-3F77-4DA4-9554-FCF154056AB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9C38F-5F3C-4BA2-A801-3852D94DA39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C28AB-EB9C-4A6D-90FD-A636B4FCF0C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67533-7F59-44B9-9020-61379803BEF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6EEA6-51FB-43B9-A307-E7D1C413A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66F0-2C52-47B9-B4B9-380D0F408A2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ED0F7-0DD6-438D-80F6-DC6425D97EC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25FBC-CEE7-4F06-9D96-EE5BAA26392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6AB2E-52DE-4390-BBB9-782851B55C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2B71-7FBE-4D8F-B058-D56EF3A9C6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4904-267E-4D15-A474-40376CF955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0E42-4B4D-4EE5-A4F1-AAD550564B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A0BE-1627-4A8F-B798-07AB0A027D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804B-0E5C-4F01-B5AB-46781BEBA7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E6AC-A16D-429C-ADAA-7A9C8C6C89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B25A-61F9-48FF-8F0D-1D41959B34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55B4-7C7A-46E4-9512-2703132348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E8C2-7BF9-4FE4-9E97-B1D51040A9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7FDE-0E27-4382-A0C5-4E261DAD4A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C73C-086A-4357-8644-6FCFEA08FB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BCDEF-E2C2-46D9-AD7C-9600AEC047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A43C9-FB8B-4565-A798-DFFA9A616F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EC490-1474-4F29-B728-351CBD3C97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A8AC8-6355-4428-8058-E18C50ACA9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F121C-75E6-4118-9F42-031DF04171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02BAF-CD1F-4DF4-8E0E-A706AFFE6D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5B547-0C0A-4BFB-AB56-424F86A550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64450-7D93-431D-85F0-8D507323CA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7B850-AF32-4283-B132-403EF5023F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588D3-D02D-4AAA-8AD1-35FC706BB6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2B119-71A0-4D9A-B4CE-30770DE672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4FCF9-0674-4913-91CF-92FB0AD8D9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B6E6-6190-45EB-A8E2-9F66394214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BB8C-4276-4B2D-AAB5-85529B4813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8315-143F-4BE5-A200-F67B78BFC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3BFA-DEC7-43B9-8AA9-4BBFFECF06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71CE-4508-4252-BE0C-F74A2CAF6A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9838-3095-4AA7-BA8C-2B1AE467AD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EFE5-1AC1-4D59-989E-42DDA4A65F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F4E4-635B-42EC-A60F-1D806CEB1B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39E2-4E4F-4F83-BEC0-AA00D58506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47FC-4D23-44A5-B1C8-C85ABA286E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9346-5914-491F-B5F9-CC6FDB02E8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DBBB-C7BE-4DDA-A5FA-AFC35C2916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AB93F-5A88-42A4-A5FF-629EB33D0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23381-7D7F-42A6-B949-BD1246EDD2A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C7A70-85FD-4266-A7DE-E48FBAB4A3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10914-EA18-46BC-AE9C-B3C01BE43A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50753-D564-42DD-88B9-D774303A106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451ED-8C59-4904-A1B6-B8E4CB4E2CD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E6D26-D5D9-4487-A14B-095B69E92BB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ED42F-A389-4390-B412-364EC99D7E7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D0FBF-4C33-4F87-A041-4AE7B94D71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9911C-7912-4847-BC51-D3B468464D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D5ACD-45A1-49DB-9C90-465B59A66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B372D-CCD5-4E64-BEAE-632BB89988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94976-48A6-44B0-A610-AD35B5A9027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BF217-7557-4E8A-AFAD-16627499496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BDD096-C8EC-4133-B502-B0E6CAC7AB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4DA94A-0743-4261-8C39-25898FA30F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BBB9E2-A091-4D90-9F37-80E164E06F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3B037-CE21-4B7D-ACC3-C897043A923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BDA2E-2BB8-4456-A818-005141EDD63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0B5DD-4DC2-4442-8459-06FE477018A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34717D-4D89-4CB3-A679-E4DA032D5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FA9384-BBD4-4B94-9321-2DDDAE308FF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15294-6656-42DE-A96E-2144E2E011F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80B31-0BBA-4244-83EE-D02DE8BBCD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0F954-CC58-484E-B2C5-2830FAADA44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96C3-6810-417A-89E5-DF50EAC7F46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4CA4-277E-4AB0-BF44-2B45AE7E551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BCC18-8164-48BC-982B-AC104731905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33974-EC27-4ECF-92FA-0499C7DA175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D78E3-DEC5-4526-A3B8-E0E6589044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3D85F-4350-452F-BE33-25A285DC7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39A4-43EC-405B-9253-8F9B2147858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CD7B9-ADA5-4B0C-8D57-B901BA1297A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A345-F927-47D9-A1C9-FD7C8DC4C0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6F18B-8692-48F2-9AB4-F68D57FB06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48A05-02AF-45AA-9CD2-D634CEC740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9E2FD-09D1-4B82-8A89-19CA9569EF6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C66AF-3A25-4E34-A6E4-1275E315DBD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FD4AC-5CC0-40E4-A1B1-F59491B5CAD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E623C-A210-4C22-981E-652E8918990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5033E-840E-4D71-8A1A-E4AAAB4EC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A76BF-A790-4CAA-8836-18D5EED5B07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FBE09-DC6B-4BBA-B02F-442FBC440D4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FB9D0-703E-4FA6-BB2A-818D966082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17FCF-D4A2-47C2-8485-DD9FB6BCC4F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790D4-EC07-4CD4-8FD1-2B9E15020A1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CB251-D4AA-4305-A349-9DDA1B482AA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F4F03-6FD7-4AD5-BFE3-7CA96E4B27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CE1094-E4C9-4A43-9E08-43E049CF4DE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6E3BDF-79CF-417E-AAE5-641D9F94642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450EC9-E4FE-425C-B7BE-6B07997D6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3CBF-4206-4800-9A47-A09C5600664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D43C-6C9F-4302-81B2-5F0B1C6D022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3419-A366-4577-87A4-68882AAFC94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5529-2093-4B92-842F-1C40BCB1CF3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1B9E-9BA4-47BA-A587-72D0EED95FA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70F3-5A21-41BE-83EF-1ACD60E3C4A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E32A-9DB5-47B9-A6A2-8B94E575152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8DFC-6A26-4616-8585-231DAF4DE85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A0C2-1069-49B2-AFE1-30B7420CBC2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40A3-A25B-4029-8E73-61B1CED49D7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Colore e sperimentazion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Mario Biss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90 Polimi + 2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/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539640" y="3789360"/>
            <a:ext cx="82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opo finale del corso è lo sviluppo dell’occhio e della sensibilità che il designer deve avere rispetto al colore, alla luce e le sue tonalità. Sensibilità che lo studio teorico dell'ottica e dei sistemi cromatici non possono in alcun modo affinare. Un percorso che vuole essere di stimolo al 'pensare pratico', nella convinzione che l'esperimento e la scoperta siano la regola d'oro della creatività. Attraverso la sperimentazione diretta lo studente scoprirà la legge fondamentale dell'universo colore: l'interazione del colore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3"/>
          <p:cNvSpPr/>
          <p:nvPr/>
        </p:nvSpPr>
        <p:spPr>
          <a:xfrm>
            <a:off x="100548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126828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ttraverso lo studio e la realizzazione di diverse interazioni ed effetti cromatici, lo studente potrà scoprire i diversi fenomeni che regolano ed influenzano il modo con cui i colori ci appaiono (interdipendenza tra colori, le differenze tra i materiali, forma e posizione, l'incidenza della luce, la relazione tra forma e superficie colorata, ecc)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5" name="Picture 5" descr="E:\CORSI UNIVERSITA\2014\COLORE E SPERIMENTAZIONE 2014\163_FUJI\DSCF3274.JPG"/>
          <p:cNvPicPr/>
          <p:nvPr/>
        </p:nvPicPr>
        <p:blipFill>
          <a:blip r:embed="rId1"/>
          <a:srcRect l="30202" t="30994" r="8232" b="21664"/>
          <a:stretch/>
        </p:blipFill>
        <p:spPr>
          <a:xfrm>
            <a:off x="642960" y="4857840"/>
            <a:ext cx="3357720" cy="14526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F:\MARTINO\CORSI UNIVERSITA\totem colore e sperimentazione\oikos colore e sperimentazione 2.jpg"/>
          <p:cNvPicPr/>
          <p:nvPr/>
        </p:nvPicPr>
        <p:blipFill>
          <a:blip r:embed="rId2"/>
          <a:stretch/>
        </p:blipFill>
        <p:spPr>
          <a:xfrm>
            <a:off x="1892160" y="3286080"/>
            <a:ext cx="2108520" cy="1428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C:\Users\Helmut\Desktop\Immagine 233.jpg"/>
          <p:cNvPicPr/>
          <p:nvPr/>
        </p:nvPicPr>
        <p:blipFill>
          <a:blip r:embed="rId3"/>
          <a:srcRect l="0" t="0" r="11868" b="0"/>
          <a:stretch/>
        </p:blipFill>
        <p:spPr>
          <a:xfrm>
            <a:off x="6572160" y="3286080"/>
            <a:ext cx="2286000" cy="14382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C:\Users\Helmut\Desktop\Immagine244.png"/>
          <p:cNvPicPr/>
          <p:nvPr/>
        </p:nvPicPr>
        <p:blipFill>
          <a:blip r:embed="rId4"/>
          <a:stretch/>
        </p:blipFill>
        <p:spPr>
          <a:xfrm>
            <a:off x="4143240" y="3286080"/>
            <a:ext cx="2284560" cy="14479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C:\Users\Helmut\Desktop\Immagine 222.jpg"/>
          <p:cNvPicPr/>
          <p:nvPr/>
        </p:nvPicPr>
        <p:blipFill>
          <a:blip r:embed="rId5"/>
          <a:srcRect l="0" t="0" r="8242" b="0"/>
          <a:stretch/>
        </p:blipFill>
        <p:spPr>
          <a:xfrm>
            <a:off x="4143240" y="4857840"/>
            <a:ext cx="2286000" cy="1446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C:\Users\Helmut\Desktop\Immagine255.jpg"/>
          <p:cNvPicPr/>
          <p:nvPr/>
        </p:nvPicPr>
        <p:blipFill>
          <a:blip r:embed="rId6"/>
          <a:srcRect l="0" t="0" r="11110" b="0"/>
          <a:stretch/>
        </p:blipFill>
        <p:spPr>
          <a:xfrm>
            <a:off x="6572160" y="4857840"/>
            <a:ext cx="2286000" cy="1446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1" descr="F:\MARTINO\CORSI UNIVERSITA\presentazioni corsi 2011\217425_1877698992653_1546615150_31944103_7574359_n.jpg"/>
          <p:cNvPicPr/>
          <p:nvPr/>
        </p:nvPicPr>
        <p:blipFill>
          <a:blip r:embed="rId7"/>
          <a:srcRect l="19413" t="7761" r="18475" b="14585"/>
          <a:stretch/>
        </p:blipFill>
        <p:spPr>
          <a:xfrm>
            <a:off x="642960" y="328608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Helmut</cp:lastModifiedBy>
  <cp:lastPrinted>2003-05-08T11:08:41Z</cp:lastPrinted>
  <dcterms:modified xsi:type="dcterms:W3CDTF">2014-07-09T13:35:55Z</dcterms:modified>
  <cp:revision>214</cp:revision>
  <dc:subject/>
  <dc:title>Inserire immagine della locandina, possibilmente in trasparenza e aggiungere Facoltà di Architettura Illustrazione prova di ammissione prof. Silvia Piardi (idem Cedolin)</dc:title>
</cp:coreProperties>
</file>